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048-03EF-494E-802A-40E50617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22CF-EA41-43CF-9A28-E0C9E10F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CF9-A25B-422C-BF1A-94B489A1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503-133F-4A61-98AF-0A164CC6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EE6-8353-4B56-AE69-EA28C876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DAAF-EACF-4562-93DD-5AD8D556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99F4-9812-4AF3-B238-8C39B923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3346-E066-42A6-BC33-20160F08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462-6C88-47A8-8BC5-5698D84B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A8E-CECA-4318-97CC-770D84DF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32C2-40DE-4967-977D-AF44ABD5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988-A650-441E-A97F-34CA1D76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402D-4E1B-48D5-9B32-03F732594EB3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000000"/>
                </a:solidFill>
                <a:latin typeface="Calibri"/>
              </a:rPr>
              <a:t>Renewable Vs Non-Renewab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act that these natural resources are running out has meant that alternative forms of energy are having to be develop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wo most widely used are nuclear energy and hydro-electric pow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hough nuclear energy does rely on a finite natural resource (uranium, plutonium or other similar minerals), it uses so little that there is very little chance of the reserves running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El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ther group of non-renewable resources 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nerals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s include valuable stones such as diamonds, but more importantly deposits of iron ore (used in the steel making process) and bauxite (used in aluminium manufactur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ain these resources are finite and have been extensively used over the past 200 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enew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Renewable resource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re ones that will never run out, either naturally or through good manageme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turally re-occurring resources include the wind, waves, air and the su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l of these things are naturally occurring and will never run out (or not until humans have long since died out!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y can all be used for human benefit and are becoming increasingly important in the search for alternative energy sourc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wever, recently, some of these have been affected by human actions, such as the burning of the rainforests polluting the atmospher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enew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natural resources need some degree of management to allow them to be renew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sts are one good example of th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opical Rainfores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being rapidly wiped out, and the natural vegetation destroyed in places like the Amazon rainfor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has very little chance of growing bac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 many countries do now have forestry schemes which include wide-scale replanting so that there are similar numbers of trees for future generations to u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enew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trees tend to be quick growing coniferous softwoods like fir and pine, rather than the slow growing deciduous hardwoods like mahogany and tea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natural resources that need some for of control and management to remain sustainable are things such as soil, water, fish and wildlif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re renewable, as long as they are not over-used or exploited by hum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Non-Renew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renewable resources are ones that will eventually run ou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described as being finite and can be easily divided into two grou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ssil Fue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the first group of non-renewable resour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include oil, coal and natural gas, which will all run out in the fut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fortunately humans have greatly increased their use of these fuels over the past 200 years, which has led to them potentially running out quite so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Howe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though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ossil fuel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ave been produced naturally, their formation takes millions of years, so there is no real chance of making any mo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all are the result of the decomposition of plants or animals, which over time have been compressed by sediments layered down on top of the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have not discovered all the coal, oil and natural gas deposits in the world, but they are becoming increasingly hard to find and then to exploi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oil companies looking for new deposits spend millions of pounds every year, but it is a very difficult proce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stim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st o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serves in the world will run out within the next 50 yea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ne exception might be some of the oil-rich Arab states, which should be able to continue production for a further 50 yea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 the decreasing availability of oil, as well as the continuing need for it may well see the price rising to a point where it is not economically viable to use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stim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al reserv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expected to last over 300 yea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estimate has consistently increased over the past few years as more fuel-efficient methods of using coal have been introduced and better technology has allowed mines to go further undergrou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rend may well continue with future develop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stim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tural g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becoming increasingly used as an alternative fuel to coal or oil, and the latest estimates suggest that there is enough remaining for approximately another 125 yea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estimate may of course decrease if the increase in its use contin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2:45:32Z</dcterms:created>
  <dc:creator>Dell_02</dc:creator>
  <dc:description/>
  <dc:language>en-US</dc:language>
  <cp:lastModifiedBy>Dell_02</cp:lastModifiedBy>
  <dcterms:modified xsi:type="dcterms:W3CDTF">2011-01-28T03:04:56Z</dcterms:modified>
  <cp:revision>2</cp:revision>
  <dc:subject/>
  <dc:title>Renewable Vs Non-Renewable</dc:title>
</cp:coreProperties>
</file>